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1200-D8FB-4C20-9312-276545DE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D70-37A1-4719-A9EF-908F727D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49780-769D-4884-ACD1-D47E636B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7F8FC-9A59-49FE-A42F-70ED7DE1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B9131-CC8E-4887-BFF7-ADACE288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0781B-D84C-4B8C-B190-7D84A120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95DAE-3FA3-4C6C-AADD-62DDA5CA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767FB-4685-4E22-80C9-280979D6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71441-AA09-41A6-8439-4372E9A2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58C84-1524-4D1C-B80F-DE1AFBBC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FE087-84BE-469D-A6EA-64FD1EFA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64C01-073D-486D-A815-830FCE74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FB1-F36A-4DA6-8882-896D5317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AB896-2EB5-42C1-9B82-D2554290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AF709-7B95-4002-AC40-62FC4B02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D87C0-BBE7-4E3C-B836-FD3EC7F6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57202-3157-47DE-AA21-CAAFEE03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8F290-DE8A-4A86-8C0F-55041824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52C92-FA87-4F67-AEEC-BF394226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DA004-2EE6-48C6-8ACB-0EC5C466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38291-C72F-41E3-A400-9E13F0F8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9B84D-E365-467A-AE21-E223865C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EEC72-EBC4-482C-8E6C-C996A551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779-77CD-43D2-9114-81D3703E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0DD57-C9FA-4E46-83C0-27B666F9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4B20F-068A-4ACE-9FB0-293737E3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65537-6020-45E6-8D14-9042D607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B0007-2A50-4027-BB51-BC5B5524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ED132-9ECF-476D-81ED-4D0ACFDD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9432C-BAAA-43CD-B1A4-CE87B2A1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1B3C3-2F4B-4944-A58D-E3EB3530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A50AE-079F-4B1B-98FE-66C90322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5F377-1F5F-4EAD-AE00-76E0E658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E4A19-06C6-4ED4-B719-52AF23CB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F885-921F-472C-B280-4E9D8A3F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F4007-124E-4DE6-BB20-D1C4F3D8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21DF4-3AB6-4CBF-A36C-2F46EFB7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DE97D-7F52-40BC-A017-F3422F33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C62DE-E3CC-4740-BC99-F050F484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BC267-DC78-435B-B0AF-28C2C60F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48409-CEFB-4F52-88E2-15F624A0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C2D67-E5FC-4A5C-AB7A-CD481774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40869-DFAC-465C-94B1-3522374A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B40A2-9A9A-4E5E-B18D-62025A60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91F94-A66F-4E5F-B95E-038D0234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B103-247F-443B-9002-AA063858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BC55B-71BF-4AFC-BE8C-DB81A746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F1B62-1248-4C18-BB27-F787C7F9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C9C8E-6E72-4218-B605-FE436A8D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D820E-3247-426B-8F7A-2013972C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F8229-9950-4405-87EE-C313109A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286B1D-9716-4B37-B9DF-F9648C48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7CDD28-2B21-4E23-8D03-5125F229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4E5F89-94D9-4F5A-976D-33467132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C5BE52-22D9-4774-BF3E-7811326F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5EB48-B34A-474F-96A8-4E3E76C9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4410-1A39-42BC-9BBA-5347D5C6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BA89C-5D19-430E-B9EE-F6AEC453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B37FA-71B6-4522-8166-D4914BAF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5DC28-95BB-4F38-B827-D36756C0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4D057-96AD-464B-9C07-F40FD653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D7D8D7-D777-4BCF-899C-81E89A3E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3750CA-8A6F-476A-9A5C-E094812E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E4945-3683-4EED-907C-CB8EA5FE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23D4B1-993E-40AE-B6BC-7F3D9EC4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7C7E05-DCBC-4380-9275-0C368355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22AA04-7236-4A3C-BD0E-3AC1621C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0786-4B6C-4DF4-85FE-3B84EC5F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0546BB-4380-4471-9D6C-3425B5F6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CC1ACC-A4E2-45EF-998C-1875C845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F8E07F-3A94-40B1-8A1D-DC6DD904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D8F667-B243-4784-BCBA-E6F2B9CC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3BB59A-516C-4E46-8E89-9267C7EA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73F821-A806-4199-A889-62AEA944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AF2214-C5DB-479B-A98B-8AE7E6DE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8F2F4A-658D-4C7B-BFD5-A3DD546F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0AAD7-D886-4773-B55B-8928E237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7170D6-4D74-4F3E-9BB9-7AFDF252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CD8D-AC4D-459C-B8F4-3845E665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28ABD8-8637-41A4-99F1-15A6DAC1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CD428F-93E6-4CEC-B59D-832FA38C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DBF6AC-AD43-497C-A081-AFB88294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3CBE5F-A8A1-43E4-A5D9-BC0AAF20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537B65-0C44-40EA-A375-872A2EB5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76A4B4-CC76-4F2C-B773-08938330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283E08-0A70-4D24-AF3D-5122AC77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15E3A7-4BF9-42B2-8BE5-A2B65947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1FD02F-0786-4177-8758-DA14FCF8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EC4A56-C70B-4D9D-B410-5ECC4E7E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0DA7-51A8-43A6-B830-8CDF4F28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7F6466-A8D2-4164-A91B-AF6FCA90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BE403A-B153-4E75-9930-4164D503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4BA618-C85E-4B5A-AEB7-DC80CF1D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9D7D8D-DEC7-421D-BB6A-629A334D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AE9935-E34A-46DC-9334-ABEBEACE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AC7F2A-382C-4EE0-B75D-D23BF87A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246E2D-8FAF-47E5-8E2D-36074695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09FF46-9E59-4B87-8ED9-4D779CC9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4B4015-0EDB-42E6-B248-D54E54B9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3F23FB-6B2A-47FE-8535-E9C281B3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547B-0B52-4A91-AC8E-A29B81FA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8E04FD-24D6-4074-95F0-3591B436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DA6187-E199-46FA-9C1B-3B685BD6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F3AA58-6CDE-4FDD-B814-02703ABF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67CE44-AAE8-49A1-9CFA-EE04BA15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1D0583-D3EA-47D5-AAB8-81766112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F7F44C-EF16-4814-A937-2650EB69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BACCD5-2FED-4E87-98BE-B54260A4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C9DE6C-2244-44B9-ABF8-FB53EC40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267A81-32A1-4A94-9F61-B359A48A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C0C2DE-B734-4234-87C4-28C5A807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E57-BF77-4938-BB6D-5753F119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3392-664D-4F68-9404-B4BDBCDD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53F082-C59F-454B-A712-7F1E28DF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DA2EE9-FE21-4088-BC61-2FEECA1C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68316D-74AC-4ACB-BA32-B148C165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171160-3052-44A8-AEE7-BC05E87B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578F4F-D1B3-4CD4-A883-6FB61A4B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DE6624-ADC9-40CE-860C-656CFC72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CD647C-B357-44D5-AAB0-39A24F04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E46BF8-06D3-4CED-BAD9-F7228701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7A156C-23E5-45C0-94E9-3B5E2116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7C7B7C-ADC8-4AA6-9C93-487E217D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E623-2BF4-4894-BD5A-4A96C1C3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55C0A4-1064-424D-A3A7-D5314195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7D8453-C5CC-4E4B-9AFA-9605733F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4D795F-5164-4532-8778-E6DE56E9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441A6E-96E7-41B9-90B4-465325AE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BE7D12-00C0-4CDD-B9CD-3342FD68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EB464C-04B5-4CBD-8E28-2BB02D94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E43CA0-FC39-46DF-A922-CC2BA816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1503CD-3C2F-478C-81EF-AE77F302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8296FD-0B6B-469E-838B-297B6BE7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AEBD6D-2435-40DF-BFEB-3731AD5F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C068-0377-45A4-B1DE-C55E1502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6802FD-7F98-4AC6-A314-CEEBA9A3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E2979A-009F-45B7-B32B-A0D7D179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00E56F-F708-4594-99BD-1C044BE3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DA91B0-8189-44B0-88FF-5C0C1B55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72911A-A1FF-4BF2-9BE1-88598C69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85309C-7781-461A-8EE7-85E9CE23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0843FC-3078-4C79-B1F0-C5DADF5B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220081-50E1-4B79-AA9F-AA6E3C64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63C2C0-FAD8-466F-B205-B70569D8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42DD9B-7120-460D-90C9-C8890BB3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D1C5-88E9-4DAB-872C-4EAEF036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4132E7-5BE6-4F5C-9025-19E76532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DC51C3-7FB9-4E48-8823-F93C2D96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E5D0A8-16CD-42D3-A2BE-9C35A45E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C3D8FC-D0A2-490B-B618-2D7952B5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28DD10-DC2F-4EAC-8E08-2479AB7B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0A6178-C96C-425E-BB38-AB5BFFCC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0D858D-CA83-4905-BB6D-67D04627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7D72D4-EEAE-497A-B8FE-4B04FA78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D17BF0-66AB-46EE-9E2C-6074561F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577A64-AD47-4A68-BE09-D6BA31AA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8000-D144-4DCC-BEE7-5339D186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6D47A0-D53E-4B31-A55A-73D60AFB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96D33F-12D3-44DD-A30E-1974850D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5AC1D6-41D1-4BBD-8EA6-8622E341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6698E1-FE51-4DB8-990B-DD9E6FDF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79B13E-290F-4640-A220-47385907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3068FA-60ED-4F97-B42F-3397724C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75BCFB-5311-49B8-BAA6-424281B2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CDD25B-D3E1-429C-8B0D-1E0EF2C4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2449F0-C7A4-49DD-9966-D839DA6A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585F1D-9D56-4E2F-B70B-9A62AFCD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35197-732B-4E54-AB83-586C1C64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17A4B6-D605-404E-A5F0-E13DE198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FA0B82-51BC-496D-ABDE-BD12C345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66FCC5-9E1A-4990-80FB-50DBA5EE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A1EF6-FF34-4000-9B09-C7EAA947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E3C68-AE4C-4A9C-9DBD-C832C725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F7E7C-6036-4931-BC4B-58F294B6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E003D-27A0-4E6E-8DEF-7F710866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F565-5BC7-440B-B948-BE314119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22D28-9815-4298-BB23-856A2A95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064D2-6051-4006-8340-06988DA4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D3287-A96B-48A0-A252-D815E867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8F76A-2205-4645-A970-3AF27210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8607E-FFE6-4EFB-84C6-35C848D7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F8ED4-EB86-411D-9642-3922D904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49E23-90CF-4989-AEE5-A3D7BF8F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67FE6-60B8-4CC0-8BE9-8D7EB7B6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F92E6-6943-4ACC-9E9A-E63E6411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91DDD-0DC9-4789-8F1B-108382DB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0EC-8B32-4483-81FC-133AB063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6A695-AE0F-46FE-A436-1CD36788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01441-2500-4890-A0CC-CC58A41A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6C6B2-2B26-40CF-9051-BAE361A2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BF11B-6921-4267-9E16-126671A6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82F5D-2529-420F-B919-D36D3A43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5ADBF-7B8B-4B17-92AB-846BE109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147E4-B2E9-4376-9F7C-A9760438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6DC39-577C-4166-9A5E-749085C4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EE39C-9CDF-436A-A690-34DA4566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82A9F-65E0-42ED-8A2D-0D99215A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767B-3146-40AD-A7B5-D6BC9E11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79BE5-01B8-450B-9B15-A2C7C650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91DA9-6AE3-41DB-977C-6FA89AD0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B15B4-A2B7-4530-B794-ECD5A381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B8AFF-C967-4B7E-B577-915F8D3F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7AE7E-4E3A-4669-AB3D-B77C9A8F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17F43-8330-4A3D-8AE5-368600B5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07B30-E620-489D-A9DA-37430F7F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6342C-B412-4DD2-A401-4DF61D3E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C2C44-3309-4A7C-B872-BB955A0B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05061-7A75-4992-93D2-A7156A46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44E9-FDF9-4FFF-A0D0-8110B4AA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CB78B-AB71-4133-A365-CD627CF2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2024E-D787-4B16-8BC5-473452D2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0DDCF-2C03-43F8-A4DD-7BD9AF95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8E57C-D7B7-40EB-98A1-2AE30FC9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4DC4B-8DF8-45AC-9413-D3F92F9B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06326-8A99-43A7-84D4-FBCA5BD0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84DBA-943D-4C42-85DE-4D8D6386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1A382-A4EA-416C-81BA-5582BFCF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F41C8-B201-49E7-BB91-BDD5E7B2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081FE-E0F6-4B1D-AF99-73DA2CDF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7D9-08E4-4A65-82AF-27378EE6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1D672-DC49-438E-82E5-328F68CC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A6F29-A3D1-4C59-9E03-84125674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23A77-816A-4915-8994-BE7AA626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1953A-77B4-465A-A327-D2D14897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5FBC1-72F4-4B4E-A6FC-B75BF3BD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5252D-91DA-4661-B689-791A219E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48970-4252-4332-B2AF-F432F54E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9D2F5-1D50-4FDE-9ACD-DE85FD1D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9B4E0-891C-437B-8797-5A345671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5AE37-EF4F-4A4C-867D-CDD09B17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C21-4543-4C0D-8F0B-199C5971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A02F4-6604-41A5-840C-ABFC81B5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47C9B-1494-4F23-A89B-3442138F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F99E8-F245-4AE7-8733-56BA0200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86EE9-D40F-402E-8EFB-F83C60F3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68D61-CF04-473E-B11E-FF3FF4ED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5EC3F-BF84-4E90-8A1E-E8955E9C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3DF5D-8C0B-462F-8DA6-B667756A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E9F7C-288D-47FE-9A9B-F543DD9F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6D37A-FA3F-4381-A140-A77FB2F9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D9715-6743-481C-9B10-8C699B19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090-6B2B-432B-B58B-17AD072E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585A4-30EF-42DB-93B4-C00AD715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4DB7D-62E9-4052-A880-4C50FB38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E82BE-CED7-4946-8DD2-8C67D223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A0569-B7B4-4AC9-B40B-FB35D2C2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48313-84BD-4A92-A230-F49F0F1C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A7127-E98F-4DC4-854E-98EAC113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65168-0341-46BB-B4FB-AC39DFE0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23390-A9EF-4AD1-859F-F9A3BBD8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F201C-345A-4F4F-A84F-1A6C3623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26581-4193-4C65-AEFB-B3B032CC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6767-D84B-4C4A-B039-9C5AF6318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2014-0660-499D-9B57-3FA46471F5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1BDD-3FF1-4797-9216-042CE4DD5C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9561-E2EE-46CC-AF47-D86CF9A135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18D9-9D47-421B-A539-D080BDA6D3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BA0D-9773-4F70-AF9E-2018FEF8FF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243A-6D2C-4ECA-AA51-29684E8AAC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4E3E-7629-467F-803C-A4B450B801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FC08-EE75-4510-8522-7338F0CA04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10D8-2F1B-4904-8EFB-23EC4712F4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7EEB-5CC8-4F56-BF00-4D6683B443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EB07-F334-4EA3-BBD1-23F2589D0E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5F84-CDEF-45D8-A95A-621916EF18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E7A6-F78A-45A4-89F6-7AA1A0D366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BF83-283F-4C25-BF57-00826E0DEE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4EC5-5846-414D-BE82-C630AAA588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CCB7-F603-46F7-878F-DA50728FA4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8EC3-9823-4530-86E2-8F67237994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68C5-9915-429E-81B0-89402A88D0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A02B-0547-4D75-A798-1BEA0C5B17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5126-D8CD-4206-99AA-8ECA6E009D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69D7-75C3-4E65-8DB1-B5C3D1E8E6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9A32-6067-40B8-A961-77D7A15621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10EE-E0B7-45CC-9914-A0DBB5D759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7A7D-2992-4D05-B68B-56669274A2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04A0-9FA7-45B3-AA6B-2718B9C3C7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0EF9-42EE-4D39-9204-8113C0D04F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E8C6-1CEE-4C84-93CA-AE5DAE24F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4D2D-86EA-400D-985C-614645B7F0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A0A8-0109-4172-9EE5-C89C9C5573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FA67-4464-4985-810E-E1DC65845E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4A7F-3098-4E75-8CC3-8F787BA45B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CD61-5B96-4602-9CDF-87A1C1B624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CD54-BCAD-49B8-B37F-9FE6AD7C3C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0D25-8288-4959-86AB-20AC05710C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9D20-6A1D-47E9-8834-92D867BBF0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2D23-1A75-45D0-B6E9-41B07B0A4B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6341-16A1-47DF-A962-965CF0C4E8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CF06-51C4-4711-84AA-B617FE557B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E2FB-47EF-4E93-83DC-3BC896D282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362320" y="3057480"/>
            <a:ext cx="441936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2" descr=""/>
          <p:cNvPicPr/>
          <p:nvPr/>
        </p:nvPicPr>
        <p:blipFill>
          <a:blip r:embed="rId1"/>
          <a:stretch/>
        </p:blipFill>
        <p:spPr>
          <a:xfrm>
            <a:off x="428760" y="733320"/>
            <a:ext cx="8343720" cy="29815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5" descr=""/>
          <p:cNvPicPr/>
          <p:nvPr/>
        </p:nvPicPr>
        <p:blipFill>
          <a:blip r:embed="rId2"/>
          <a:stretch/>
        </p:blipFill>
        <p:spPr>
          <a:xfrm>
            <a:off x="395280" y="3843360"/>
            <a:ext cx="8391600" cy="29433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3"/>
          <a:stretch/>
        </p:blipFill>
        <p:spPr>
          <a:xfrm>
            <a:off x="1928880" y="1357200"/>
            <a:ext cx="554040" cy="4539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4"/>
          <a:stretch/>
        </p:blipFill>
        <p:spPr>
          <a:xfrm>
            <a:off x="5643720" y="1357200"/>
            <a:ext cx="554040" cy="4539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5"/>
          <a:stretch/>
        </p:blipFill>
        <p:spPr>
          <a:xfrm>
            <a:off x="1919160" y="1992240"/>
            <a:ext cx="554040" cy="4539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6"/>
          <a:stretch/>
        </p:blipFill>
        <p:spPr>
          <a:xfrm>
            <a:off x="5634000" y="1992240"/>
            <a:ext cx="554040" cy="4539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7"/>
          <a:stretch/>
        </p:blipFill>
        <p:spPr>
          <a:xfrm>
            <a:off x="5572080" y="2600280"/>
            <a:ext cx="3000600" cy="4539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8"/>
          <a:stretch/>
        </p:blipFill>
        <p:spPr>
          <a:xfrm>
            <a:off x="4562640" y="4473720"/>
            <a:ext cx="2000160" cy="4521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9"/>
          <a:stretch/>
        </p:blipFill>
        <p:spPr>
          <a:xfrm>
            <a:off x="1928880" y="5072040"/>
            <a:ext cx="414324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Picture 2" descr=""/>
          <p:cNvPicPr/>
          <p:nvPr/>
        </p:nvPicPr>
        <p:blipFill>
          <a:blip r:embed="rId1"/>
          <a:stretch/>
        </p:blipFill>
        <p:spPr>
          <a:xfrm>
            <a:off x="361800" y="885960"/>
            <a:ext cx="8420400" cy="56862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2"/>
          <a:stretch/>
        </p:blipFill>
        <p:spPr>
          <a:xfrm>
            <a:off x="1000080" y="912960"/>
            <a:ext cx="60721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Picture 2" descr=""/>
          <p:cNvPicPr/>
          <p:nvPr/>
        </p:nvPicPr>
        <p:blipFill>
          <a:blip r:embed="rId1"/>
          <a:stretch/>
        </p:blipFill>
        <p:spPr>
          <a:xfrm>
            <a:off x="385920" y="971640"/>
            <a:ext cx="83721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Picture 2" descr=""/>
          <p:cNvPicPr/>
          <p:nvPr/>
        </p:nvPicPr>
        <p:blipFill>
          <a:blip r:embed="rId1"/>
          <a:stretch/>
        </p:blipFill>
        <p:spPr>
          <a:xfrm>
            <a:off x="390600" y="1023840"/>
            <a:ext cx="83628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Picture 2" descr=""/>
          <p:cNvPicPr/>
          <p:nvPr/>
        </p:nvPicPr>
        <p:blipFill>
          <a:blip r:embed="rId1"/>
          <a:stretch/>
        </p:blipFill>
        <p:spPr>
          <a:xfrm>
            <a:off x="409680" y="1066680"/>
            <a:ext cx="8324640" cy="23623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2"/>
          <a:stretch/>
        </p:blipFill>
        <p:spPr>
          <a:xfrm>
            <a:off x="428760" y="3724200"/>
            <a:ext cx="6143400" cy="25624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3"/>
          <a:stretch/>
        </p:blipFill>
        <p:spPr>
          <a:xfrm>
            <a:off x="2928960" y="4429080"/>
            <a:ext cx="1285920" cy="4539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4"/>
          <a:stretch/>
        </p:blipFill>
        <p:spPr>
          <a:xfrm>
            <a:off x="3786120" y="5143680"/>
            <a:ext cx="2000160" cy="45396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5"/>
          <a:stretch/>
        </p:blipFill>
        <p:spPr>
          <a:xfrm>
            <a:off x="3857760" y="5778360"/>
            <a:ext cx="2000160" cy="4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Picture 3" descr=""/>
          <p:cNvPicPr/>
          <p:nvPr/>
        </p:nvPicPr>
        <p:blipFill>
          <a:blip r:embed="rId1"/>
          <a:stretch/>
        </p:blipFill>
        <p:spPr>
          <a:xfrm>
            <a:off x="347760" y="843120"/>
            <a:ext cx="8448480" cy="58006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2"/>
          <a:stretch/>
        </p:blipFill>
        <p:spPr>
          <a:xfrm>
            <a:off x="2000160" y="1544760"/>
            <a:ext cx="1285920" cy="4539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3"/>
          <a:stretch/>
        </p:blipFill>
        <p:spPr>
          <a:xfrm>
            <a:off x="5286240" y="1500120"/>
            <a:ext cx="1285920" cy="4539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4"/>
          <a:stretch/>
        </p:blipFill>
        <p:spPr>
          <a:xfrm>
            <a:off x="1000080" y="2214720"/>
            <a:ext cx="1285920" cy="4539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5"/>
          <a:stretch/>
        </p:blipFill>
        <p:spPr>
          <a:xfrm>
            <a:off x="7215120" y="2214720"/>
            <a:ext cx="1500120" cy="45396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" descr=""/>
          <p:cNvPicPr/>
          <p:nvPr/>
        </p:nvPicPr>
        <p:blipFill>
          <a:blip r:embed="rId6"/>
          <a:stretch/>
        </p:blipFill>
        <p:spPr>
          <a:xfrm>
            <a:off x="642960" y="2867040"/>
            <a:ext cx="1285920" cy="4525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7"/>
          <a:stretch/>
        </p:blipFill>
        <p:spPr>
          <a:xfrm>
            <a:off x="5000760" y="3546360"/>
            <a:ext cx="1000080" cy="4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Picture 2" descr=""/>
          <p:cNvPicPr/>
          <p:nvPr/>
        </p:nvPicPr>
        <p:blipFill>
          <a:blip r:embed="rId1"/>
          <a:stretch/>
        </p:blipFill>
        <p:spPr>
          <a:xfrm>
            <a:off x="380880" y="1052640"/>
            <a:ext cx="8382240" cy="51624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2"/>
          <a:stretch/>
        </p:blipFill>
        <p:spPr>
          <a:xfrm>
            <a:off x="7358040" y="1071720"/>
            <a:ext cx="1000080" cy="4539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3"/>
          <a:stretch/>
        </p:blipFill>
        <p:spPr>
          <a:xfrm>
            <a:off x="571680" y="4357800"/>
            <a:ext cx="8286480" cy="45396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"/>
          <p:cNvPicPr/>
          <p:nvPr/>
        </p:nvPicPr>
        <p:blipFill>
          <a:blip r:embed="rId4"/>
          <a:stretch/>
        </p:blipFill>
        <p:spPr>
          <a:xfrm>
            <a:off x="571680" y="5029200"/>
            <a:ext cx="8286480" cy="45396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5"/>
          <a:stretch/>
        </p:blipFill>
        <p:spPr>
          <a:xfrm>
            <a:off x="571680" y="5689440"/>
            <a:ext cx="8286480" cy="4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Picture 2" descr=""/>
          <p:cNvPicPr/>
          <p:nvPr/>
        </p:nvPicPr>
        <p:blipFill>
          <a:blip r:embed="rId1"/>
          <a:stretch/>
        </p:blipFill>
        <p:spPr>
          <a:xfrm>
            <a:off x="366840" y="1000080"/>
            <a:ext cx="8410320" cy="542916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4" descr=""/>
          <p:cNvPicPr/>
          <p:nvPr/>
        </p:nvPicPr>
        <p:blipFill>
          <a:blip r:embed="rId2"/>
          <a:stretch/>
        </p:blipFill>
        <p:spPr>
          <a:xfrm>
            <a:off x="2143080" y="4546440"/>
            <a:ext cx="785880" cy="45432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4" descr=""/>
          <p:cNvPicPr/>
          <p:nvPr/>
        </p:nvPicPr>
        <p:blipFill>
          <a:blip r:embed="rId3"/>
          <a:stretch/>
        </p:blipFill>
        <p:spPr>
          <a:xfrm>
            <a:off x="2305080" y="5199120"/>
            <a:ext cx="785880" cy="4539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4"/>
          <a:stretch/>
        </p:blipFill>
        <p:spPr>
          <a:xfrm>
            <a:off x="7215120" y="5214960"/>
            <a:ext cx="785880" cy="45396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5"/>
          <a:stretch/>
        </p:blipFill>
        <p:spPr>
          <a:xfrm>
            <a:off x="1214280" y="5884920"/>
            <a:ext cx="7858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2" descr=""/>
          <p:cNvPicPr/>
          <p:nvPr/>
        </p:nvPicPr>
        <p:blipFill>
          <a:blip r:embed="rId1"/>
          <a:stretch/>
        </p:blipFill>
        <p:spPr>
          <a:xfrm>
            <a:off x="928800" y="928800"/>
            <a:ext cx="68482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371520" y="1309680"/>
            <a:ext cx="8400960" cy="42386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3" descr=""/>
          <p:cNvPicPr/>
          <p:nvPr/>
        </p:nvPicPr>
        <p:blipFill>
          <a:blip r:embed="rId2"/>
          <a:stretch/>
        </p:blipFill>
        <p:spPr>
          <a:xfrm>
            <a:off x="1152360" y="3367080"/>
            <a:ext cx="7610760" cy="7239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1152360" y="4152960"/>
            <a:ext cx="7658280" cy="6476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5" descr=""/>
          <p:cNvPicPr/>
          <p:nvPr/>
        </p:nvPicPr>
        <p:blipFill>
          <a:blip r:embed="rId4"/>
          <a:stretch/>
        </p:blipFill>
        <p:spPr>
          <a:xfrm>
            <a:off x="1071720" y="4857840"/>
            <a:ext cx="77245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2" descr=""/>
          <p:cNvPicPr/>
          <p:nvPr/>
        </p:nvPicPr>
        <p:blipFill>
          <a:blip r:embed="rId1"/>
          <a:stretch/>
        </p:blipFill>
        <p:spPr>
          <a:xfrm>
            <a:off x="357120" y="905040"/>
            <a:ext cx="8429760" cy="56671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4000680" y="1746360"/>
            <a:ext cx="1056960" cy="10573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3"/>
          <a:stretch/>
        </p:blipFill>
        <p:spPr>
          <a:xfrm>
            <a:off x="6643800" y="1785960"/>
            <a:ext cx="2076480" cy="10382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4000680" y="3000240"/>
            <a:ext cx="1056960" cy="10573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5"/>
          <a:stretch/>
        </p:blipFill>
        <p:spPr>
          <a:xfrm>
            <a:off x="2643120" y="4286160"/>
            <a:ext cx="2076480" cy="10382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7643880" y="428616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7"/>
          <a:stretch/>
        </p:blipFill>
        <p:spPr>
          <a:xfrm>
            <a:off x="2428920" y="550080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8"/>
          <a:stretch/>
        </p:blipFill>
        <p:spPr>
          <a:xfrm>
            <a:off x="5572080" y="5500800"/>
            <a:ext cx="10573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2" descr=""/>
          <p:cNvPicPr/>
          <p:nvPr/>
        </p:nvPicPr>
        <p:blipFill>
          <a:blip r:embed="rId1"/>
          <a:stretch/>
        </p:blipFill>
        <p:spPr>
          <a:xfrm>
            <a:off x="709560" y="714240"/>
            <a:ext cx="7724880" cy="60962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2"/>
          <a:stretch/>
        </p:blipFill>
        <p:spPr>
          <a:xfrm>
            <a:off x="803160" y="73188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3"/>
          <a:stretch/>
        </p:blipFill>
        <p:spPr>
          <a:xfrm>
            <a:off x="4398840" y="200016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4"/>
          <a:stretch/>
        </p:blipFill>
        <p:spPr>
          <a:xfrm>
            <a:off x="1751040" y="3286080"/>
            <a:ext cx="2076480" cy="10382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5"/>
          <a:stretch/>
        </p:blipFill>
        <p:spPr>
          <a:xfrm>
            <a:off x="1143000" y="4500720"/>
            <a:ext cx="1057320" cy="10569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6"/>
          <a:stretch/>
        </p:blipFill>
        <p:spPr>
          <a:xfrm>
            <a:off x="6357960" y="4518000"/>
            <a:ext cx="2076480" cy="10382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7"/>
          <a:stretch/>
        </p:blipFill>
        <p:spPr>
          <a:xfrm>
            <a:off x="5429160" y="5792760"/>
            <a:ext cx="20764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528480" y="990720"/>
            <a:ext cx="8087040" cy="55814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2"/>
          <a:stretch/>
        </p:blipFill>
        <p:spPr>
          <a:xfrm>
            <a:off x="4071960" y="3000240"/>
            <a:ext cx="714240" cy="4543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3"/>
          <a:stretch/>
        </p:blipFill>
        <p:spPr>
          <a:xfrm>
            <a:off x="6858000" y="3000240"/>
            <a:ext cx="714240" cy="4543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4"/>
          <a:stretch/>
        </p:blipFill>
        <p:spPr>
          <a:xfrm>
            <a:off x="4143240" y="4457880"/>
            <a:ext cx="714600" cy="4539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5"/>
          <a:stretch/>
        </p:blipFill>
        <p:spPr>
          <a:xfrm>
            <a:off x="6929280" y="4457880"/>
            <a:ext cx="714600" cy="4539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6"/>
          <a:stretch/>
        </p:blipFill>
        <p:spPr>
          <a:xfrm>
            <a:off x="4500720" y="5824440"/>
            <a:ext cx="714240" cy="4525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7"/>
          <a:stretch/>
        </p:blipFill>
        <p:spPr>
          <a:xfrm>
            <a:off x="7286760" y="5824440"/>
            <a:ext cx="71424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7220160" cy="10764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2"/>
          <a:stretch/>
        </p:blipFill>
        <p:spPr>
          <a:xfrm>
            <a:off x="338040" y="2200320"/>
            <a:ext cx="8448840" cy="4371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3"/>
          <a:stretch/>
        </p:blipFill>
        <p:spPr>
          <a:xfrm>
            <a:off x="4286160" y="1143000"/>
            <a:ext cx="714600" cy="4539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4"/>
          <a:stretch/>
        </p:blipFill>
        <p:spPr>
          <a:xfrm>
            <a:off x="6929280" y="1143000"/>
            <a:ext cx="714600" cy="4539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5"/>
          <a:stretch/>
        </p:blipFill>
        <p:spPr>
          <a:xfrm>
            <a:off x="6286680" y="3589200"/>
            <a:ext cx="2071440" cy="4543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6"/>
          <a:stretch/>
        </p:blipFill>
        <p:spPr>
          <a:xfrm>
            <a:off x="6269040" y="4903920"/>
            <a:ext cx="2071800" cy="4539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7"/>
          <a:stretch/>
        </p:blipFill>
        <p:spPr>
          <a:xfrm>
            <a:off x="6232680" y="5502240"/>
            <a:ext cx="2071440" cy="4539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8"/>
          <a:stretch/>
        </p:blipFill>
        <p:spPr>
          <a:xfrm>
            <a:off x="6286680" y="6089760"/>
            <a:ext cx="207144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2" descr=""/>
          <p:cNvPicPr/>
          <p:nvPr/>
        </p:nvPicPr>
        <p:blipFill>
          <a:blip r:embed="rId1"/>
          <a:stretch/>
        </p:blipFill>
        <p:spPr>
          <a:xfrm>
            <a:off x="380880" y="1095480"/>
            <a:ext cx="8382240" cy="5048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2"/>
          <a:stretch/>
        </p:blipFill>
        <p:spPr>
          <a:xfrm>
            <a:off x="1214280" y="3143160"/>
            <a:ext cx="554040" cy="4539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3"/>
          <a:stretch/>
        </p:blipFill>
        <p:spPr>
          <a:xfrm>
            <a:off x="7000920" y="3776760"/>
            <a:ext cx="554040" cy="4539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4"/>
          <a:stretch/>
        </p:blipFill>
        <p:spPr>
          <a:xfrm>
            <a:off x="2428920" y="5046840"/>
            <a:ext cx="554040" cy="4539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5"/>
          <a:stretch/>
        </p:blipFill>
        <p:spPr>
          <a:xfrm>
            <a:off x="6572160" y="5572080"/>
            <a:ext cx="55404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2" descr=""/>
          <p:cNvPicPr/>
          <p:nvPr/>
        </p:nvPicPr>
        <p:blipFill>
          <a:blip r:embed="rId1"/>
          <a:stretch/>
        </p:blipFill>
        <p:spPr>
          <a:xfrm>
            <a:off x="314280" y="952560"/>
            <a:ext cx="85154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Picture 2" descr=""/>
          <p:cNvPicPr/>
          <p:nvPr/>
        </p:nvPicPr>
        <p:blipFill>
          <a:blip r:embed="rId1"/>
          <a:stretch/>
        </p:blipFill>
        <p:spPr>
          <a:xfrm>
            <a:off x="390600" y="961920"/>
            <a:ext cx="836280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4T03:48:35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